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B56-D62D-47B9-B9A2-1824085D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750-0CD5-4700-88E4-3E273F27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21E-9DC4-4925-A1FD-52EC38B9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6B9-1A48-4F89-809B-BB3B90E1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33B-A041-48F0-97BF-AC438F06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0D4-F4F1-4092-B9FF-2C2681CC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BF8-42E5-4FF4-AEA8-BBBB14DA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3D4-21A0-44FD-AE5D-71C60597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AFD-03C1-4ED4-8C7D-FF1AC1EF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7D3-9C24-47E2-BAA6-A9BEFE6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310-ACF1-4C6F-B3B2-63A08C2A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303-4DC2-441D-8687-2FAF5EB9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1E9A-63D4-4ACE-8F6C-32AAA8BD5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179280"/>
            <a:ext cx="896472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947880"/>
            <a:ext cx="8424720" cy="4332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60360" y="611352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. Schwetz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2160" y="420840"/>
            <a:ext cx="48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ée des dégénérescences par LBL + AT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timization of Proton Beam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457200" y="1600200"/>
          <a:ext cx="8229600" cy="474336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3333ff"/>
                          </a:solidFill>
                          <a:latin typeface="Times New Roman"/>
                        </a:rPr>
                        <a:t>proton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G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osci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cil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ins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ignific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/ (N</a:t>
                      </a:r>
                      <a:r>
                        <a:rPr b="0" lang="en-US" sz="2000" spc="-1" strike="noStrike" baseline="-25000">
                          <a:solidFill>
                            <a:srgbClr val="339933"/>
                          </a:solidFill>
                          <a:latin typeface="Times New Roman"/>
                        </a:rPr>
                        <a:t>total</a:t>
                      </a: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000" spc="-1" strike="noStrike" baseline="30000">
                          <a:solidFill>
                            <a:srgbClr val="339933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7469280" y="6521400"/>
            <a:ext cx="1748880" cy="33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ampagne + Ca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172200"/>
            <a:ext cx="77277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0% Increase in significance at higher energy: 3.5 or 4.5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00160" y="20808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74920"/>
            <a:ext cx="45594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2008080"/>
            <a:ext cx="4162320" cy="335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 flipV="1">
            <a:off x="2895120" y="2895480"/>
            <a:ext cx="228600" cy="106704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581280" y="35812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809880" y="3733560"/>
            <a:ext cx="763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590560"/>
            <a:ext cx="6094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33600" y="320688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P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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km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0"/>
            <a:ext cx="77724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bining SPL and </a:t>
            </a:r>
            <a:r>
              <a:rPr b="0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16600" y="616572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22:36Z</dcterms:created>
  <dc:creator>J.E Campagne</dc:creator>
  <dc:description/>
  <dc:language>en-US</dc:language>
  <cp:lastModifiedBy>J.E Campagne</cp:lastModifiedBy>
  <dcterms:modified xsi:type="dcterms:W3CDTF">2005-04-26T12:23:40Z</dcterms:modified>
  <cp:revision>1</cp:revision>
  <dc:subject/>
  <dc:title>Diapositive 1</dc:title>
</cp:coreProperties>
</file>